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hammer.wav" ContentType="audio/x-wav"/>
  <Override PartName="/ppt/media/laser.wav" ContentType="audio/x-wav"/>
  <Override PartName="/ppt/media/image12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9.jpeg" ContentType="image/jpeg"/>
  <Override PartName="/ppt/media/bomb.wav" ContentType="audio/x-wav"/>
  <Override PartName="/ppt/media/image5.wmf" ContentType="image/x-wmf"/>
  <Override PartName="/ppt/media/image10.png" ContentType="image/png"/>
  <Override PartName="/ppt/media/arrow.wav" ContentType="audio/x-wav"/>
  <Override PartName="/ppt/media/image21.jpeg" ContentType="image/jpeg"/>
  <Override PartName="/ppt/media/image23.wmf" ContentType="image/x-wmf"/>
  <Override PartName="/ppt/media/image22.wmf" ContentType="image/x-wmf"/>
  <Override PartName="/ppt/media/suction.wav" ContentType="audio/x-wav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20.png" ContentType="image/png"/>
  <Override PartName="/ppt/media/voltage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259-394D-4C2B-AB9F-0BA41601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CC5-A74E-4CCE-BA81-2FA26E9A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095-3CC1-4ADF-9318-3BC1A6F0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213-D3BF-441A-B191-B3C53E63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55D-9329-4BE8-B077-9FA95DED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D37-467B-4889-8B1D-D15ECFB4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EEB-FD81-4183-9676-ABE9623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1C8-DAE9-48BC-996D-80A4CB6D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4C9-DAF9-4651-B9F4-1B92787A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9A7-D19C-4A66-BBF9-EA4F1D3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12E-6E0D-4536-8BCE-D9E78C9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C9D-9D17-47D6-AA71-F5B6594B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15A0-D05D-4286-A44D-7B2E72A20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gbsd.com/" TargetMode="External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69400">
            <a:off x="609480" y="914040"/>
            <a:ext cx="53341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zzText"/>
              </a:rPr>
              <a:t>!!ME!!</a:t>
            </a:r>
            <a:endParaRPr b="1" i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rot="10317600">
            <a:off x="7086600" y="4724280"/>
            <a:ext cx="1781280" cy="170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3526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 rot="604800">
            <a:off x="6552720" y="380880"/>
            <a:ext cx="228600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666880" cy="227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781680" y="2438280"/>
            <a:ext cx="1827360" cy="1627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8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457200"/>
            <a:ext cx="6324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oadway"/>
              </a:rPr>
              <a:t>My House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</p:spTree>
  </p:cSld>
  <p:transition spd="slow">
    <p:blinds dir="vert"/>
    <p:sndAc>
      <p:stSnd>
        <p:snd r:embed="rId2" name="bomb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say that I have man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know who th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57400" cy="173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2666880" cy="181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219320" y="228600"/>
            <a:ext cx="3962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igi"/>
              </a:rPr>
              <a:t>My Friends</a:t>
            </a:r>
            <a:endParaRPr b="1" i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igi"/>
              <a:ea typeface="Gig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914400" y="525780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733920" y="4419720"/>
            <a:ext cx="1542960" cy="1936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7" name="voltage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the Cedar Grove-Belgium Rock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072040" cy="250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5167440"/>
            <a:ext cx="3429000" cy="124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48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162920" y="228600"/>
            <a:ext cx="1608120" cy="178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419720" y="4800600"/>
            <a:ext cx="1452600" cy="1806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09480" y="304920"/>
            <a:ext cx="6400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zzText"/>
              </a:rPr>
              <a:t>My School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</p:spTree>
  </p:cSld>
  <p:transition spd="slow">
    <p:random/>
    <p:sndAc>
      <p:stSnd>
        <p:snd r:embed="rId6" name="hamme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ttend Cedar Grove-Belgium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a 13 year old living in Cedar Gr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moved quite a bit in my lifetime: Milwaukee, Oostburg, and Cedar Grove. I moved a lot in Milwauk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arents own the A.K.A. Mobil Station on 3 West Union Ave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kers are not welcome at my house…l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90920" y="54100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1522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819520" y="3049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Old English Text MT"/>
              </a:rPr>
              <a:t>My Lif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Old English Text MT"/>
              <a:ea typeface="Old English Text M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2193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2057400" cy="1211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7" name="suction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gbsd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thescroogereport.files.wordpress.com/2007/04/gas-prices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Websites Used</a:t>
            </a:r>
            <a:endParaRPr b="1" i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2295360" cy="2705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213228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arrow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7:01Z</dcterms:created>
  <dc:creator>CGB</dc:creator>
  <dc:description/>
  <dc:language>en-US</dc:language>
  <cp:lastModifiedBy>CGB</cp:lastModifiedBy>
  <dcterms:modified xsi:type="dcterms:W3CDTF">2008-06-11T14:13:43Z</dcterms:modified>
  <cp:revision>14</cp:revision>
  <dc:subject/>
  <dc:title>Me</dc:title>
</cp:coreProperties>
</file>